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jetflyby2.wav" ContentType="audio/x-wav"/>
  <Override PartName="/ppt/media/zipup202.wav" ContentType="audio/x-wav"/>
  <Override PartName="/ppt/media/highchime.wav" ContentType="audio/x-wav"/>
  <Override PartName="/ppt/media/CHIMES.WAV" ContentType="audio/x-wav"/>
  <Override PartName="/ppt/media/fastsnaps.wav" ContentType="audio/x-wav"/>
  <Override PartName="/ppt/media/LASER.WAV" ContentType="audio/x-wav"/>
  <Override PartName="/ppt/media/image1.gif" ContentType="image/gif"/>
  <Override PartName="/ppt/media/zapbig0g.wav" ContentType="audio/x-wav"/>
  <Override PartName="/ppt/media/explode.wav" ContentType="audio/x-wav"/>
  <Override PartName="/ppt/media/telephone.wav" ContentType="audio/x-wav"/>
  <Override PartName="/ppt/media/WHOOSH.WAV" ContentType="audio/x-wav"/>
  <Override PartName="/ppt/media/carbrake.wav" ContentType="audio/x-wav"/>
  <Override PartName="/ppt/media/zipby102.wav" ContentType="audio/x-wav"/>
  <Override PartName="/ppt/media/children%20yeah.wav" ContentType="audio/x-wav"/>
  <Override PartName="/ppt/media/drive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439-74BD-4B81-93C4-7915D993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55D-CF5E-4C40-A063-76DE78D1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9CF-E006-4D47-A50A-B4E7EA79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3F1-8516-4942-9094-8A1CDCA1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988-7728-4DD1-9727-CA32CEC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651-55D7-4B80-A6A8-56F7F224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DB0-C3B5-4B98-BF01-AF472A75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8E5-2868-4A19-A48C-8B121118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7F7-B962-4424-9B7C-631E580A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FD1-F713-4FF6-B85C-54399DD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7AC-54B2-443E-A2DC-285EB70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61A-C9B2-4312-96F0-03CA610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BEE4-AA61-4E3C-8B4C-E41A0B22E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explode.wav"/><Relationship Id="rId10" Type="http://schemas.openxmlformats.org/officeDocument/2006/relationships/audio" Target="../media/carbrake.wav"/><Relationship Id="rId11" Type="http://schemas.openxmlformats.org/officeDocument/2006/relationships/audio" Target="../media/telephone.wav"/><Relationship Id="rId12" Type="http://schemas.openxmlformats.org/officeDocument/2006/relationships/audio" Target="../media/zipup20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children%20yeah.wav"/><Relationship Id="rId19" Type="http://schemas.openxmlformats.org/officeDocument/2006/relationships/audio" Target="../media/children%20yeah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zipby102.wav"/><Relationship Id="rId5" Type="http://schemas.openxmlformats.org/officeDocument/2006/relationships/audio" Target="../media/children%20yeah.wav"/><Relationship Id="rId6" Type="http://schemas.openxmlformats.org/officeDocument/2006/relationships/audio" Target="../media/children%20yea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telephone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zipup202.wav"/><Relationship Id="rId9" Type="http://schemas.openxmlformats.org/officeDocument/2006/relationships/audio" Target="../media/driveby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children%20yeah.wav"/><Relationship Id="rId16" Type="http://schemas.openxmlformats.org/officeDocument/2006/relationships/audio" Target="../media/children%20yeah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bserie06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driveby.wav"/><Relationship Id="rId6" Type="http://schemas.openxmlformats.org/officeDocument/2006/relationships/audio" Target="../media/bserie06.wav"/><Relationship Id="rId7" Type="http://schemas.openxmlformats.org/officeDocument/2006/relationships/audio" Target="../media/zipup202.wav"/><Relationship Id="rId8" Type="http://schemas.openxmlformats.org/officeDocument/2006/relationships/audio" Target="../media/zipup202.wav"/><Relationship Id="rId9" Type="http://schemas.openxmlformats.org/officeDocument/2006/relationships/audio" Target="../media/zipup202.wav"/><Relationship Id="rId10" Type="http://schemas.openxmlformats.org/officeDocument/2006/relationships/audio" Target="../media/zipup202.wav"/><Relationship Id="rId11" Type="http://schemas.openxmlformats.org/officeDocument/2006/relationships/audio" Target="../media/driveby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children%20yeah.wav"/><Relationship Id="rId18" Type="http://schemas.openxmlformats.org/officeDocument/2006/relationships/audio" Target="../media/children%20yeah.wav"/><Relationship Id="rId19" Type="http://schemas.openxmlformats.org/officeDocument/2006/relationships/audio" Target="../media/children%20yeah.wav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bserie06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driveby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children%20yeah.wav"/><Relationship Id="rId14" Type="http://schemas.openxmlformats.org/officeDocument/2006/relationships/audio" Target="../media/children%20yeah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fastsnaps.wav"/><Relationship Id="rId3" Type="http://schemas.openxmlformats.org/officeDocument/2006/relationships/audio" Target="../media/jetflyby2.wav"/><Relationship Id="rId4" Type="http://schemas.openxmlformats.org/officeDocument/2006/relationships/audio" Target="../media/highchime.wav"/><Relationship Id="rId5" Type="http://schemas.openxmlformats.org/officeDocument/2006/relationships/audio" Target="../media/zipup202.wav"/><Relationship Id="rId6" Type="http://schemas.openxmlformats.org/officeDocument/2006/relationships/audio" Target="../media/highchime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550800" y="4014720"/>
                <a:ext cx="2683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43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ifying a Ration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465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 fraction whose numerator and denominator are nonzero polynomial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79360" y="5014440"/>
            <a:ext cx="1843200" cy="3351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098800" y="4173480"/>
            <a:ext cx="40464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2119320"/>
            <a:ext cx="8534160" cy="1231920"/>
            <a:chOff x="304920" y="2119320"/>
            <a:chExt cx="8534160" cy="1231920"/>
          </a:xfrm>
        </p:grpSpPr>
        <p:sp>
          <p:nvSpPr>
            <p:cNvPr id="53" name=""/>
            <p:cNvSpPr/>
            <p:nvPr/>
          </p:nvSpPr>
          <p:spPr>
            <a:xfrm>
              <a:off x="304920" y="2119320"/>
              <a:ext cx="8534160" cy="1231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2119320"/>
              <a:ext cx="0" cy="123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80880" y="2119320"/>
            <a:ext cx="1752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mplified 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1880" y="2103480"/>
            <a:ext cx="670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When the numerator and denominator have no factors in common (other tha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62000" y="5448240"/>
                <a:ext cx="2028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5800" y="5473800"/>
                <a:ext cx="47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49400" y="5541840"/>
                <a:ext cx="955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505320" y="3914640"/>
                <a:ext cx="21254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121280" y="4856040"/>
                <a:ext cx="1449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1112760" y="5595840"/>
            <a:ext cx="40500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1080" y="283356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60360" y="3986280"/>
                <a:ext cx="30654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66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ifying a Ration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465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 fraction whose numerator and denominator are nonzero polynomial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20760" y="4192560"/>
            <a:ext cx="40500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2119320"/>
            <a:ext cx="8534160" cy="1231920"/>
            <a:chOff x="304920" y="2119320"/>
            <a:chExt cx="8534160" cy="1231920"/>
          </a:xfrm>
        </p:grpSpPr>
        <p:sp>
          <p:nvSpPr>
            <p:cNvPr id="75" name=""/>
            <p:cNvSpPr/>
            <p:nvPr/>
          </p:nvSpPr>
          <p:spPr>
            <a:xfrm>
              <a:off x="304920" y="2119320"/>
              <a:ext cx="8534160" cy="1231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119320"/>
              <a:ext cx="0" cy="123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0880" y="2119320"/>
            <a:ext cx="1752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mplified 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3320" y="210168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When the numerator and denominator have no factors in common (other tha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13000" y="5284800"/>
                <a:ext cx="525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48080" y="3914640"/>
                <a:ext cx="22413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60840" y="493236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V="1">
            <a:off x="2008080" y="4979880"/>
            <a:ext cx="40500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51080" y="283356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1920" y="4022640"/>
                <a:ext cx="23000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86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ifying a Ration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465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 fraction whose numerator and denominator are nonzero polynomial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2119320"/>
            <a:ext cx="8534160" cy="1231920"/>
            <a:chOff x="304920" y="2119320"/>
            <a:chExt cx="8534160" cy="1231920"/>
          </a:xfrm>
        </p:grpSpPr>
        <p:sp>
          <p:nvSpPr>
            <p:cNvPr id="94" name=""/>
            <p:cNvSpPr/>
            <p:nvPr/>
          </p:nvSpPr>
          <p:spPr>
            <a:xfrm>
              <a:off x="304920" y="2119320"/>
              <a:ext cx="8534160" cy="1231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119320"/>
              <a:ext cx="0" cy="123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0880" y="2119320"/>
            <a:ext cx="1752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mplified 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3320" y="210168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When the numerator and denominator have no factors in common (other tha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51080" y="283356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10688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Times New Roman"/>
              </a:rPr>
              <a:t>Since you cannot factor the numerator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62280" y="4502160"/>
            <a:ext cx="638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Times New Roman"/>
              </a:rPr>
              <a:t>and the numerator and denominator are not exactly the same 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62280" y="5400720"/>
            <a:ext cx="6718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Times New Roman"/>
              </a:rPr>
              <a:t>then it </a:t>
            </a:r>
            <a:r>
              <a:rPr b="1" lang="en-US" sz="2900" spc="-1" strike="noStrike" u="sng">
                <a:solidFill>
                  <a:srgbClr val="006600"/>
                </a:solidFill>
                <a:uFillTx/>
                <a:latin typeface="Times New Roman"/>
              </a:rPr>
              <a:t>is already simplifi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4120" y="2417760"/>
                <a:ext cx="36892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Opposit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444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69920" y="1868400"/>
                <a:ext cx="2922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89080" y="207000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71840" y="205416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85800" y="1906560"/>
                <a:ext cx="86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06720" y="1876320"/>
                <a:ext cx="861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1216080" y="2719080"/>
            <a:ext cx="2738520" cy="315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25720" y="4119480"/>
            <a:ext cx="12063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4040" y="2125800"/>
            <a:ext cx="1227240" cy="27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251000" y="3884760"/>
                <a:ext cx="2155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890720" y="3579840"/>
            <a:ext cx="1450800" cy="2030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62000" y="3924360"/>
                <a:ext cx="1341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38560" y="2441520"/>
                <a:ext cx="2241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65560" y="3389400"/>
                <a:ext cx="828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38880" y="2976480"/>
                <a:ext cx="2279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6960" y="2828880"/>
                <a:ext cx="34498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Opposit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444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93600" y="2279520"/>
                <a:ext cx="2922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70000" y="2354400"/>
                <a:ext cx="1198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84440" y="2374920"/>
                <a:ext cx="1246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V="1">
            <a:off x="1587600" y="3185640"/>
            <a:ext cx="1563480" cy="241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04960" y="4511520"/>
            <a:ext cx="120672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8640" y="4332240"/>
                <a:ext cx="2922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1292400" y="3935520"/>
            <a:ext cx="2476440" cy="2397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35080" y="452916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84480" y="2797200"/>
                <a:ext cx="32166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238720" y="3738600"/>
                <a:ext cx="1451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38360" y="4511520"/>
                <a:ext cx="5270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71760" y="4354560"/>
                <a:ext cx="861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40200" y="4359240"/>
                <a:ext cx="766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1187280" y="1843200"/>
            <a:ext cx="120672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2920" y="1608120"/>
                <a:ext cx="2155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95560" y="1647720"/>
                <a:ext cx="1198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V="1">
            <a:off x="1157400" y="2557440"/>
            <a:ext cx="1282680" cy="241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21240" y="4495680"/>
                <a:ext cx="23320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3520" y="2270160"/>
                <a:ext cx="34970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Opposit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444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17560" y="2627280"/>
            <a:ext cx="1563840" cy="241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735280" y="3952800"/>
            <a:ext cx="12063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28600" y="3773520"/>
                <a:ext cx="2922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V="1">
            <a:off x="1422360" y="3376440"/>
            <a:ext cx="2476440" cy="2397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65400" y="397044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87760" y="2238480"/>
                <a:ext cx="24703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300640" y="3160800"/>
                <a:ext cx="1400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68680" y="395280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01720" y="3828960"/>
                <a:ext cx="86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170160" y="3800520"/>
                <a:ext cx="766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1989000" y="1994040"/>
            <a:ext cx="120672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14280" y="1758960"/>
                <a:ext cx="2156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96920" y="1798560"/>
                <a:ext cx="119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R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300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A coin is tossed into the large rectangle region shown below. It is equally likely to land on any point in the region. Write a model that gives the probability that the coin will land in the small rectang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025960" y="2774880"/>
                <a:ext cx="37497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ea of 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of lar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70520" y="4367160"/>
                <a:ext cx="620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45080" y="4006800"/>
                <a:ext cx="23972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23000" y="5707080"/>
                <a:ext cx="1050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02360" y="5243400"/>
                <a:ext cx="18651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29280" y="6048360"/>
                <a:ext cx="1913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 flipV="1">
            <a:off x="6083280" y="4107960"/>
            <a:ext cx="365040" cy="530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2817720"/>
            <a:ext cx="4727520" cy="2551320"/>
            <a:chOff x="0" y="2817720"/>
            <a:chExt cx="4727520" cy="2551320"/>
          </a:xfrm>
        </p:grpSpPr>
        <p:sp>
          <p:nvSpPr>
            <p:cNvPr id="170" name=""/>
            <p:cNvSpPr/>
            <p:nvPr/>
          </p:nvSpPr>
          <p:spPr>
            <a:xfrm>
              <a:off x="641520" y="3346560"/>
              <a:ext cx="4086000" cy="20224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4048200"/>
              <a:ext cx="662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0280" y="2817720"/>
              <a:ext cx="10702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+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9960" y="3341520"/>
            <a:ext cx="2268360" cy="1465200"/>
            <a:chOff x="669960" y="3341520"/>
            <a:chExt cx="2268360" cy="1465200"/>
          </a:xfrm>
        </p:grpSpPr>
        <p:sp>
          <p:nvSpPr>
            <p:cNvPr id="174" name=""/>
            <p:cNvSpPr/>
            <p:nvPr/>
          </p:nvSpPr>
          <p:spPr>
            <a:xfrm>
              <a:off x="1090440" y="3852720"/>
              <a:ext cx="1847880" cy="954000"/>
            </a:xfrm>
            <a:prstGeom prst="rect">
              <a:avLst/>
            </a:prstGeom>
            <a:solidFill>
              <a:srgbClr val="cc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7200" y="3341520"/>
              <a:ext cx="1069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+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9960" y="3941640"/>
              <a:ext cx="1069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811840" y="4746600"/>
                <a:ext cx="21304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6157800" y="4804920"/>
            <a:ext cx="365400" cy="530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84160" y="3703680"/>
            <a:ext cx="1635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2-25T13:55:53Z</dcterms:modified>
  <cp:revision>320</cp:revision>
  <dc:subject/>
  <dc:title>No Slide Title</dc:title>
</cp:coreProperties>
</file>